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02D-6EB3-4126-9607-7428246C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94D-A0DD-42AA-853F-174B0819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833-2B0C-48C9-A94E-2C4113ED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3EC-2DB6-4F8B-A0C1-50C5C056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061-B5C9-467D-8BB9-FFA96B22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FF1-BA90-4772-BE1A-5E83E0AF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506-E6CD-4908-B379-19C9E1B5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B7D-A719-4DBC-AB9F-96DB85ED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BA6-401E-4F64-8B84-AFEFF96C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D5D-0E02-48CC-9D29-56CACF3C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E07-6712-4B25-95CD-CFD2D922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8DA-2B68-4EAB-8339-A3239F54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C36E-47EA-4CD3-AF78-C9F89EE3C4C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package" Target="../embeddings/oleObject1.xls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hermokon.de/" TargetMode="External"/><Relationship Id="rId3" Type="http://schemas.openxmlformats.org/officeDocument/2006/relationships/hyperlink" Target="http://www.thermokon.de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7067520" cy="4897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8560" y="115920"/>
            <a:ext cx="56754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7480" indent="0">
              <a:lnSpc>
                <a:spcPct val="100000"/>
              </a:lnSpc>
              <a:buNone/>
              <a:tabLst>
                <a:tab algn="l" pos="0"/>
                <a:tab algn="l" pos="8748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диосистема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asySe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1219320" y="2637000"/>
            <a:ext cx="79246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планир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спроводной радиосистемы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автоматизации з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219320" y="1219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деальным местом для монтажа внешней антенны является центр пом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2624040" y="24908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2624040" y="24620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2624040" y="2309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19320" y="190512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ое расстояние от стены 10cm, от  потолка 50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219320" y="236232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енна должна находиться в вертикальном положе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219320" y="284796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таж на ферромагнитной металлической плате 18 x 18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1219320" y="358128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избежания отражённого сигнала кабель антенны не должен быть согнут.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523880" y="4178160"/>
          <a:ext cx="3353040" cy="21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78160"/>
                    <a:ext cx="33530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4"/>
          <p:cNvGraphicFramePr/>
          <p:nvPr/>
        </p:nvGraphicFramePr>
        <p:xfrm>
          <a:off x="5486400" y="4572000"/>
          <a:ext cx="3303720" cy="12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572000"/>
                    <a:ext cx="33037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5"/>
          <p:cNvGrpSpPr/>
          <p:nvPr/>
        </p:nvGrpSpPr>
        <p:grpSpPr>
          <a:xfrm>
            <a:off x="1187280" y="188640"/>
            <a:ext cx="5712120" cy="684360"/>
            <a:chOff x="1187280" y="188640"/>
            <a:chExt cx="5712120" cy="684360"/>
          </a:xfrm>
        </p:grpSpPr>
        <p:sp>
          <p:nvSpPr>
            <p:cNvPr id="178" name="AutoShape 16"/>
            <p:cNvSpPr/>
            <p:nvPr/>
          </p:nvSpPr>
          <p:spPr>
            <a:xfrm>
              <a:off x="1187280" y="188640"/>
              <a:ext cx="5712120" cy="684360"/>
            </a:xfrm>
            <a:prstGeom prst="roundRect">
              <a:avLst>
                <a:gd name="adj" fmla="val 23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1187280" y="347400"/>
              <a:ext cx="571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92240">
                <a:tabLst>
                  <a:tab algn="l" pos="0"/>
                  <a:tab algn="l" pos="192240"/>
                  <a:tab algn="l" pos="639720"/>
                  <a:tab algn="l" pos="1089000"/>
                  <a:tab algn="l" pos="1538280"/>
                  <a:tab algn="l" pos="1987560"/>
                  <a:tab algn="l" pos="2436840"/>
                  <a:tab algn="l" pos="2886120"/>
                  <a:tab algn="l" pos="3335400"/>
                  <a:tab algn="l" pos="3784680"/>
                  <a:tab algn="l" pos="4233960"/>
                  <a:tab algn="l" pos="4683240"/>
                  <a:tab algn="l" pos="5132520"/>
                  <a:tab algn="l" pos="5581800"/>
                  <a:tab algn="l" pos="6031080"/>
                  <a:tab algn="l" pos="6480000"/>
                  <a:tab algn="l" pos="6929280"/>
                  <a:tab algn="l" pos="7378560"/>
                  <a:tab algn="l" pos="7827840"/>
                  <a:tab algn="l" pos="8277120"/>
                  <a:tab algn="l" pos="8726400"/>
                  <a:tab algn="l" pos="917568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Приёмные устройства с внешней антенн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8960" y="65160"/>
            <a:ext cx="5715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тояние до других помехосоздающих устройст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1219320" y="1219320"/>
            <a:ext cx="7619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тояние до других передающих устройств ( GSM / DECT / Wireless LAN ) должно составлять не менее 0,5 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2624040" y="24908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2624040" y="24620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2624040" y="2309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2523960" y="229068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2500200" y="24908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0"/>
          <p:cNvGrpSpPr/>
          <p:nvPr/>
        </p:nvGrpSpPr>
        <p:grpSpPr>
          <a:xfrm>
            <a:off x="2133720" y="2287440"/>
            <a:ext cx="6300720" cy="2806920"/>
            <a:chOff x="2133720" y="2287440"/>
            <a:chExt cx="6300720" cy="2806920"/>
          </a:xfrm>
        </p:grpSpPr>
        <p:graphicFrame>
          <p:nvGraphicFramePr>
            <p:cNvPr id="192" name="Object 12"/>
            <p:cNvGraphicFramePr/>
            <p:nvPr/>
          </p:nvGraphicFramePr>
          <p:xfrm>
            <a:off x="2133720" y="2362320"/>
            <a:ext cx="6033960" cy="273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3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33720" y="2362320"/>
                      <a:ext cx="6033960" cy="27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4" name="Group 13"/>
            <p:cNvGrpSpPr/>
            <p:nvPr/>
          </p:nvGrpSpPr>
          <p:grpSpPr>
            <a:xfrm>
              <a:off x="7048440" y="2287440"/>
              <a:ext cx="1365480" cy="337320"/>
              <a:chOff x="7048440" y="2287440"/>
              <a:chExt cx="1365480" cy="337320"/>
            </a:xfrm>
          </p:grpSpPr>
          <p:sp>
            <p:nvSpPr>
              <p:cNvPr id="195" name="AutoShape 14"/>
              <p:cNvSpPr/>
              <p:nvPr/>
            </p:nvSpPr>
            <p:spPr>
              <a:xfrm>
                <a:off x="7048440" y="2287440"/>
                <a:ext cx="136548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15"/>
              <p:cNvSpPr/>
              <p:nvPr/>
            </p:nvSpPr>
            <p:spPr>
              <a:xfrm>
                <a:off x="7048440" y="2287440"/>
                <a:ext cx="136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ередатч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6"/>
            <p:cNvGrpSpPr/>
            <p:nvPr/>
          </p:nvGrpSpPr>
          <p:grpSpPr>
            <a:xfrm>
              <a:off x="7068960" y="2779560"/>
              <a:ext cx="1365480" cy="337320"/>
              <a:chOff x="7068960" y="2779560"/>
              <a:chExt cx="1365480" cy="337320"/>
            </a:xfrm>
          </p:grpSpPr>
          <p:sp>
            <p:nvSpPr>
              <p:cNvPr id="198" name="AutoShape 17"/>
              <p:cNvSpPr/>
              <p:nvPr/>
            </p:nvSpPr>
            <p:spPr>
              <a:xfrm>
                <a:off x="7068960" y="2779560"/>
                <a:ext cx="136548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8"/>
              <p:cNvSpPr/>
              <p:nvPr/>
            </p:nvSpPr>
            <p:spPr>
              <a:xfrm>
                <a:off x="7068960" y="2779560"/>
                <a:ext cx="136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риём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peater - ретранслято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219320" y="1219320"/>
            <a:ext cx="731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При проблемах с получением качественного радиосигнала могут быть использованы ретранслят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2624040" y="24908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624040" y="24620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624040" y="2309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2523960" y="229068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2500200" y="24908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219320" y="1905120"/>
            <a:ext cx="792468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88000"/>
              </a:lnSpc>
              <a:buClr>
                <a:srgbClr val="000000"/>
              </a:buClr>
              <a:buFont typeface="Humnst777 BT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Во время планирования необходимо заранее предусмотреть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  возможность использования ретранслятор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14"/>
          <p:cNvGraphicFramePr/>
          <p:nvPr/>
        </p:nvGraphicFramePr>
        <p:xfrm>
          <a:off x="1523880" y="3124080"/>
          <a:ext cx="3048120" cy="19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124080"/>
                    <a:ext cx="304812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Group 25"/>
          <p:cNvGrpSpPr/>
          <p:nvPr/>
        </p:nvGrpSpPr>
        <p:grpSpPr>
          <a:xfrm>
            <a:off x="4703760" y="3081240"/>
            <a:ext cx="4437000" cy="2249640"/>
            <a:chOff x="4703760" y="3081240"/>
            <a:chExt cx="4437000" cy="2249640"/>
          </a:xfrm>
        </p:grpSpPr>
        <p:graphicFrame>
          <p:nvGraphicFramePr>
            <p:cNvPr id="215" name="Object 13"/>
            <p:cNvGraphicFramePr/>
            <p:nvPr/>
          </p:nvGraphicFramePr>
          <p:xfrm>
            <a:off x="4703760" y="3081240"/>
            <a:ext cx="4056120" cy="224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6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03760" y="3081240"/>
                      <a:ext cx="405612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7" name="Group 15"/>
            <p:cNvGrpSpPr/>
            <p:nvPr/>
          </p:nvGrpSpPr>
          <p:grpSpPr>
            <a:xfrm>
              <a:off x="8194680" y="3100320"/>
              <a:ext cx="946080" cy="246240"/>
              <a:chOff x="8194680" y="3100320"/>
              <a:chExt cx="946080" cy="246240"/>
            </a:xfrm>
          </p:grpSpPr>
          <p:sp>
            <p:nvSpPr>
              <p:cNvPr id="218" name="AutoShape 16"/>
              <p:cNvSpPr/>
              <p:nvPr/>
            </p:nvSpPr>
            <p:spPr>
              <a:xfrm>
                <a:off x="8194680" y="3100320"/>
                <a:ext cx="946080" cy="241560"/>
              </a:xfrm>
              <a:prstGeom prst="roundRect">
                <a:avLst>
                  <a:gd name="adj" fmla="val 65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7"/>
              <p:cNvSpPr/>
              <p:nvPr/>
            </p:nvSpPr>
            <p:spPr>
              <a:xfrm>
                <a:off x="8194680" y="3100320"/>
                <a:ext cx="946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Передатч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18"/>
            <p:cNvGrpSpPr/>
            <p:nvPr/>
          </p:nvGrpSpPr>
          <p:grpSpPr>
            <a:xfrm>
              <a:off x="8196120" y="3402000"/>
              <a:ext cx="944640" cy="246240"/>
              <a:chOff x="8196120" y="3402000"/>
              <a:chExt cx="944640" cy="246240"/>
            </a:xfrm>
          </p:grpSpPr>
          <p:sp>
            <p:nvSpPr>
              <p:cNvPr id="221" name="AutoShape 19"/>
              <p:cNvSpPr/>
              <p:nvPr/>
            </p:nvSpPr>
            <p:spPr>
              <a:xfrm>
                <a:off x="8196120" y="3402000"/>
                <a:ext cx="944640" cy="241560"/>
              </a:xfrm>
              <a:prstGeom prst="roundRect">
                <a:avLst>
                  <a:gd name="adj" fmla="val 65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20"/>
              <p:cNvSpPr/>
              <p:nvPr/>
            </p:nvSpPr>
            <p:spPr>
              <a:xfrm>
                <a:off x="8196120" y="3402000"/>
                <a:ext cx="94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Приёмник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21"/>
            <p:cNvGrpSpPr/>
            <p:nvPr/>
          </p:nvGrpSpPr>
          <p:grpSpPr>
            <a:xfrm>
              <a:off x="8221680" y="3668760"/>
              <a:ext cx="743040" cy="477720"/>
              <a:chOff x="8221680" y="3668760"/>
              <a:chExt cx="743040" cy="477720"/>
            </a:xfrm>
          </p:grpSpPr>
          <p:sp>
            <p:nvSpPr>
              <p:cNvPr id="224" name="AutoShape 22"/>
              <p:cNvSpPr/>
              <p:nvPr/>
            </p:nvSpPr>
            <p:spPr>
              <a:xfrm>
                <a:off x="8221680" y="3668760"/>
                <a:ext cx="743040" cy="469800"/>
              </a:xfrm>
              <a:prstGeom prst="roundRect">
                <a:avLst>
                  <a:gd name="adj" fmla="val 333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23"/>
              <p:cNvSpPr/>
              <p:nvPr/>
            </p:nvSpPr>
            <p:spPr>
              <a:xfrm>
                <a:off x="8221680" y="3668760"/>
                <a:ext cx="743040" cy="47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Ретранс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лятор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65160"/>
            <a:ext cx="5715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PM300 – устройство для измерения качества радиосигн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5"/>
          <a:stretch/>
        </p:blipFill>
        <p:spPr>
          <a:xfrm>
            <a:off x="5105520" y="3429000"/>
            <a:ext cx="3581280" cy="2482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7"/>
          <p:cNvSpPr/>
          <p:nvPr/>
        </p:nvSpPr>
        <p:spPr>
          <a:xfrm>
            <a:off x="1187280" y="1197000"/>
            <a:ext cx="71629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88000"/>
              </a:lnSpc>
              <a:spcBef>
                <a:spcPts val="1001"/>
              </a:spcBef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EPM300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огает планировщикам и монтажникам в поиске оптимальных мест для монтажа передатчиков и приём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19320" y="1828800"/>
            <a:ext cx="74674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ct val="88000"/>
              </a:lnSpc>
              <a:spcBef>
                <a:spcPts val="1001"/>
              </a:spcBef>
              <a:buClr>
                <a:srgbClr val="000000"/>
              </a:buClr>
              <a:buFont typeface="Humnst777 BT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ка и наладка уже установленных устр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219320" y="23623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кация мощности принимаемого радиосиг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19320" y="34290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spcBef>
                <a:spcPts val="1001"/>
              </a:spcBef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цип работы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1219320" y="388620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дин человек посылает радиотелеграмму нажатием кнопки на передатч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1219320" y="4876920"/>
            <a:ext cx="38862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ой следит за качеством принимаемого радиосигнала и определяет, таким образом, оптимальное место для монта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spcBef>
                <a:spcPts val="1001"/>
              </a:spcBef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1219320" y="289548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ндикация помех в диапазоне  868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7" descr="EPM300 - &amp;Ucy;&amp;scy;&amp;tcy;&amp;rcy;&amp;ocy;&amp;jcy;&amp;scy;&amp;tcy;&amp;vcy;&amp;ocy; &amp;dcy;&amp;lcy;&amp;yacy; &amp;acy;&amp;ncy;&amp;acy;&amp;lcy;&amp;icy;&amp;zcy;&amp;acy; &amp;rcy;&amp;acy;&amp;dcy;&amp;icy;&amp;ocy;&amp;scy;&amp;icy;&amp;gcy;&amp;ncy;&amp;acy;&amp;lcy;&amp;acy;"/>
          <p:cNvPicPr/>
          <p:nvPr/>
        </p:nvPicPr>
        <p:blipFill>
          <a:blip r:embed="rId6"/>
          <a:stretch/>
        </p:blipFill>
        <p:spPr>
          <a:xfrm>
            <a:off x="7740720" y="1773360"/>
            <a:ext cx="94464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8960" y="65160"/>
            <a:ext cx="5715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зиционирование датчиков на солнечных батарея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1219320" y="12952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При выборе места монтажа для датчиков на солнечных батареях необходимо придерживаться определённых прави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219320" y="2209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инимальная освещённость 150lx на протяжении 3-4 часов в д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219320" y="26668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егать прямого и постоянного солнечного с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219320" y="31384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егать тёмные поме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1187280" y="41497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чики такого рода должны быть направлены в сторону ок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219320" y="47242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бегать затемнения датч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219320" y="5410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о время монтажа проверять освещённость при помощи Люксме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1187280" y="35002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 освещённости от искусственного источника света не должен бы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лишком полог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ой и искусственный св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1219320" y="12952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олнечные батареи выдают различные значения, в зависимости от источника с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258920" y="206064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илучшим источником света для солнечной батареи является дневной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свет ( широкий диапазон световых волн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1219320" y="26956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Искусственный источник света  даёт меньше энергии солнечной батарее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( узкий диапазон световых волн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1219320" y="345744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одинаковой освещённости дневной свет даёт  больше энергии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на 25-100%, чем искусственный с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1219320" y="42958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лое количество дневного света в зимний период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отреть освещённость от искусственного источника с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1219320" y="5133960"/>
            <a:ext cx="754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изонтальное расположение солнечной батареи по отношению к свету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лучаемая энергия в 3 раза больше,  по сравнению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с вертикальным  расположение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ипичная освещён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6"/>
          <p:cNvSpPr/>
          <p:nvPr/>
        </p:nvSpPr>
        <p:spPr>
          <a:xfrm>
            <a:off x="1219320" y="12952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пень типичной освещённости помещ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7"/>
          <p:cNvGrpSpPr/>
          <p:nvPr/>
        </p:nvGrpSpPr>
        <p:grpSpPr>
          <a:xfrm>
            <a:off x="1219320" y="1981080"/>
            <a:ext cx="7540560" cy="932040"/>
            <a:chOff x="1219320" y="1981080"/>
            <a:chExt cx="7540560" cy="932040"/>
          </a:xfrm>
        </p:grpSpPr>
        <p:sp>
          <p:nvSpPr>
            <p:cNvPr id="271" name="Text Box 8"/>
            <p:cNvSpPr/>
            <p:nvPr/>
          </p:nvSpPr>
          <p:spPr>
            <a:xfrm>
              <a:off x="1219320" y="198108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tabLst>
                  <a:tab algn="l" pos="0"/>
                  <a:tab algn="l" pos="187200"/>
                  <a:tab algn="l" pos="635040"/>
                  <a:tab algn="l" pos="1084320"/>
                  <a:tab algn="l" pos="1533600"/>
                  <a:tab algn="l" pos="1982880"/>
                  <a:tab algn="l" pos="2432160"/>
                  <a:tab algn="l" pos="2881440"/>
                  <a:tab algn="l" pos="3330720"/>
                  <a:tab algn="l" pos="3780000"/>
                  <a:tab algn="l" pos="4229280"/>
                  <a:tab algn="l" pos="4678200"/>
                  <a:tab algn="l" pos="5127480"/>
                  <a:tab algn="l" pos="5576760"/>
                  <a:tab algn="l" pos="6026040"/>
                  <a:tab algn="l" pos="6475320"/>
                  <a:tab algn="l" pos="6924600"/>
                  <a:tab algn="l" pos="7373880"/>
                  <a:tab algn="l" pos="7823160"/>
                  <a:tab algn="l" pos="8272440"/>
                  <a:tab algn="l" pos="8721720"/>
                  <a:tab algn="l" pos="9171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Школ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9"/>
            <p:cNvSpPr/>
            <p:nvPr/>
          </p:nvSpPr>
          <p:spPr>
            <a:xfrm>
              <a:off x="1219320" y="227700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лассная доска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0 - 10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1219320" y="257580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бщие помещения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0 -   5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1"/>
          <p:cNvGrpSpPr/>
          <p:nvPr/>
        </p:nvGrpSpPr>
        <p:grpSpPr>
          <a:xfrm>
            <a:off x="1219320" y="3092400"/>
            <a:ext cx="7540560" cy="1266480"/>
            <a:chOff x="1219320" y="3092400"/>
            <a:chExt cx="7540560" cy="1266480"/>
          </a:xfrm>
        </p:grpSpPr>
        <p:sp>
          <p:nvSpPr>
            <p:cNvPr id="275" name="Text Box 12"/>
            <p:cNvSpPr/>
            <p:nvPr/>
          </p:nvSpPr>
          <p:spPr>
            <a:xfrm>
              <a:off x="1219320" y="309240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tabLst>
                  <a:tab algn="l" pos="0"/>
                  <a:tab algn="l" pos="187200"/>
                  <a:tab algn="l" pos="635040"/>
                  <a:tab algn="l" pos="1084320"/>
                  <a:tab algn="l" pos="1533600"/>
                  <a:tab algn="l" pos="1982880"/>
                  <a:tab algn="l" pos="2432160"/>
                  <a:tab algn="l" pos="2881440"/>
                  <a:tab algn="l" pos="3330720"/>
                  <a:tab algn="l" pos="3780000"/>
                  <a:tab algn="l" pos="4229280"/>
                  <a:tab algn="l" pos="4678200"/>
                  <a:tab algn="l" pos="5127480"/>
                  <a:tab algn="l" pos="5576760"/>
                  <a:tab algn="l" pos="6026040"/>
                  <a:tab algn="l" pos="6475320"/>
                  <a:tab algn="l" pos="6924600"/>
                  <a:tab algn="l" pos="7373880"/>
                  <a:tab algn="l" pos="7823160"/>
                  <a:tab algn="l" pos="8272440"/>
                  <a:tab algn="l" pos="8721720"/>
                  <a:tab algn="l" pos="9171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фисные помещения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3"/>
            <p:cNvSpPr/>
            <p:nvPr/>
          </p:nvSpPr>
          <p:spPr>
            <a:xfrm>
              <a:off x="1219320" y="339228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бочий стол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 -   5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1219320" y="372204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мната для конференций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0 -   7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219320" y="402156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оридор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50 -   1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6"/>
          <p:cNvGrpSpPr/>
          <p:nvPr/>
        </p:nvGrpSpPr>
        <p:grpSpPr>
          <a:xfrm>
            <a:off x="1219320" y="4508640"/>
            <a:ext cx="7540560" cy="1266480"/>
            <a:chOff x="1219320" y="4508640"/>
            <a:chExt cx="7540560" cy="1266480"/>
          </a:xfrm>
        </p:grpSpPr>
        <p:sp>
          <p:nvSpPr>
            <p:cNvPr id="280" name="Text Box 17"/>
            <p:cNvSpPr/>
            <p:nvPr/>
          </p:nvSpPr>
          <p:spPr>
            <a:xfrm>
              <a:off x="1219320" y="450864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tabLst>
                  <a:tab algn="l" pos="0"/>
                  <a:tab algn="l" pos="187200"/>
                  <a:tab algn="l" pos="635040"/>
                  <a:tab algn="l" pos="1084320"/>
                  <a:tab algn="l" pos="1533600"/>
                  <a:tab algn="l" pos="1982880"/>
                  <a:tab algn="l" pos="2432160"/>
                  <a:tab algn="l" pos="2881440"/>
                  <a:tab algn="l" pos="3330720"/>
                  <a:tab algn="l" pos="3780000"/>
                  <a:tab algn="l" pos="4229280"/>
                  <a:tab algn="l" pos="4678200"/>
                  <a:tab algn="l" pos="5127480"/>
                  <a:tab algn="l" pos="5576760"/>
                  <a:tab algn="l" pos="6026040"/>
                  <a:tab algn="l" pos="6475320"/>
                  <a:tab algn="l" pos="6924600"/>
                  <a:tab algn="l" pos="7373880"/>
                  <a:tab algn="l" pos="7823160"/>
                  <a:tab algn="l" pos="8272440"/>
                  <a:tab algn="l" pos="8721720"/>
                  <a:tab algn="l" pos="9171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остиницы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1219320" y="480744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гистрация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0 -   7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1219320" y="513684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есторан 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0 -   30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1219320" y="543780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3803760"/>
                  <a:tab algn="l" pos="4565520"/>
                  <a:tab algn="l" pos="5479920"/>
                  <a:tab algn="l" pos="6394320"/>
                  <a:tab algn="l" pos="7308720"/>
                  <a:tab algn="l" pos="8223120"/>
                  <a:tab algn="l" pos="9137520"/>
                  <a:tab algn="l" pos="10051920"/>
                  <a:tab algn="l" pos="10329840"/>
                  <a:tab algn="l" pos="1077912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естничная площадка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50 -   150 l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света в помещен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1219320" y="12952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центром помещения и  её стенами могут быть значительные расхождения в интенсивности осве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7"/>
          <p:cNvGrpSpPr/>
          <p:nvPr/>
        </p:nvGrpSpPr>
        <p:grpSpPr>
          <a:xfrm>
            <a:off x="1219320" y="1981080"/>
            <a:ext cx="7540560" cy="932040"/>
            <a:chOff x="1219320" y="1981080"/>
            <a:chExt cx="7540560" cy="932040"/>
          </a:xfrm>
        </p:grpSpPr>
        <p:sp>
          <p:nvSpPr>
            <p:cNvPr id="291" name="Text Box 8"/>
            <p:cNvSpPr/>
            <p:nvPr/>
          </p:nvSpPr>
          <p:spPr>
            <a:xfrm>
              <a:off x="1219320" y="198108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tabLst>
                  <a:tab algn="l" pos="0"/>
                  <a:tab algn="l" pos="187200"/>
                  <a:tab algn="l" pos="635040"/>
                  <a:tab algn="l" pos="1084320"/>
                  <a:tab algn="l" pos="1533600"/>
                  <a:tab algn="l" pos="1982880"/>
                  <a:tab algn="l" pos="2432160"/>
                  <a:tab algn="l" pos="2881440"/>
                  <a:tab algn="l" pos="3330720"/>
                  <a:tab algn="l" pos="3780000"/>
                  <a:tab algn="l" pos="4229280"/>
                  <a:tab algn="l" pos="4678200"/>
                  <a:tab algn="l" pos="5127480"/>
                  <a:tab algn="l" pos="5576760"/>
                  <a:tab algn="l" pos="6026040"/>
                  <a:tab algn="l" pos="6475320"/>
                  <a:tab algn="l" pos="6924600"/>
                  <a:tab algn="l" pos="7373880"/>
                  <a:tab algn="l" pos="7823160"/>
                  <a:tab algn="l" pos="8272440"/>
                  <a:tab algn="l" pos="8721720"/>
                  <a:tab algn="l" pos="9171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акторы влия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1219320" y="227700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187200"/>
                  <a:tab algn="l" pos="635040"/>
                  <a:tab algn="l" pos="1084320"/>
                  <a:tab algn="l" pos="1533600"/>
                  <a:tab algn="l" pos="1982880"/>
                  <a:tab algn="l" pos="2432160"/>
                  <a:tab algn="l" pos="2881440"/>
                  <a:tab algn="l" pos="3330720"/>
                  <a:tab algn="l" pos="3780000"/>
                  <a:tab algn="l" pos="4229280"/>
                  <a:tab algn="l" pos="4678200"/>
                  <a:tab algn="l" pos="5127480"/>
                  <a:tab algn="l" pos="5576760"/>
                  <a:tab algn="l" pos="6026040"/>
                  <a:tab algn="l" pos="6475320"/>
                  <a:tab algn="l" pos="6924600"/>
                  <a:tab algn="l" pos="7373880"/>
                  <a:tab algn="l" pos="7823160"/>
                  <a:tab algn="l" pos="8272440"/>
                  <a:tab algn="l" pos="8721720"/>
                  <a:tab algn="l" pos="9171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троительный 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0"/>
            <p:cNvSpPr/>
            <p:nvPr/>
          </p:nvSpPr>
          <p:spPr>
            <a:xfrm>
              <a:off x="1219320" y="2575800"/>
              <a:ext cx="754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>
                <a:buClr>
                  <a:srgbClr val="000000"/>
                </a:buClr>
                <a:buFont typeface="Arial"/>
                <a:buChar char="•"/>
                <a:tabLst>
                  <a:tab algn="l" pos="187200"/>
                  <a:tab algn="l" pos="635040"/>
                  <a:tab algn="l" pos="1084320"/>
                  <a:tab algn="l" pos="1533600"/>
                  <a:tab algn="l" pos="1982880"/>
                  <a:tab algn="l" pos="2432160"/>
                  <a:tab algn="l" pos="2881440"/>
                  <a:tab algn="l" pos="3330720"/>
                  <a:tab algn="l" pos="3780000"/>
                  <a:tab algn="l" pos="4229280"/>
                  <a:tab algn="l" pos="4678200"/>
                  <a:tab algn="l" pos="5127480"/>
                  <a:tab algn="l" pos="5576760"/>
                  <a:tab algn="l" pos="6026040"/>
                  <a:tab algn="l" pos="6475320"/>
                  <a:tab algn="l" pos="6924600"/>
                  <a:tab algn="l" pos="7373880"/>
                  <a:tab algn="l" pos="7823160"/>
                  <a:tab algn="l" pos="8272440"/>
                  <a:tab algn="l" pos="8721720"/>
                  <a:tab algn="l" pos="9171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Цвет стен и мебели, находящейся в помещ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AutoShape 11"/>
          <p:cNvSpPr/>
          <p:nvPr/>
        </p:nvSpPr>
        <p:spPr>
          <a:xfrm>
            <a:off x="2066760" y="20383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2"/>
          <p:cNvGraphicFramePr/>
          <p:nvPr/>
        </p:nvGraphicFramePr>
        <p:xfrm>
          <a:off x="1523880" y="3276720"/>
          <a:ext cx="4572000" cy="253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276720"/>
                    <a:ext cx="457200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Text Box 13"/>
          <p:cNvSpPr/>
          <p:nvPr/>
        </p:nvSpPr>
        <p:spPr>
          <a:xfrm>
            <a:off x="6172200" y="3124080"/>
            <a:ext cx="2819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Важ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Сравнительные измерения Люксметром должны проводиться непосредственно на месте монтаж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рвалы передачи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1219320" y="12952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тепень освещённости датчика влияет на зарядку его внутреннего аккумулятора и интервалы передачи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1219320" y="19810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исанная освещённость датчика заряжает внутренний аккумулятор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  </a:t>
            </a:r>
            <a:r>
              <a:rPr b="1" lang="en-GB" sz="1600" spc="-1" strike="noStrike">
                <a:solidFill>
                  <a:srgbClr val="000000"/>
                </a:solidFill>
                <a:latin typeface="Humnst777 BT"/>
                <a:ea typeface="Times New Roman"/>
              </a:rPr>
              <a:t>3,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ль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8"/>
          <p:cNvSpPr/>
          <p:nvPr/>
        </p:nvSpPr>
        <p:spPr>
          <a:xfrm>
            <a:off x="2066760" y="20383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2529000" y="255276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1523880" y="2971800"/>
          <a:ext cx="6934320" cy="2973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2971800"/>
                    <a:ext cx="6934320" cy="29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жение за стабильностью работы радио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1219320" y="121932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омощи приём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го устройств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можно следить за интервалами передачи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187280" y="184464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людение за стабильностью радиокан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2066760" y="20383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29000" y="255276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1187280" y="213372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Интервал передачи данных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висит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258920" y="24210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37476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Изменения измерительных зна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1258920" y="270828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37476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Степени зарядки внутреннего аккумуля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1187280" y="2997360"/>
            <a:ext cx="75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 для стандартных настрое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1187280" y="3284640"/>
            <a:ext cx="75438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374760"/>
                <a:tab algn="l" pos="1231920"/>
                <a:tab algn="l" pos="180324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 Интервал передачи данных при различных напряж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tabLst>
                <a:tab algn="l" pos="0"/>
                <a:tab algn="l" pos="187200"/>
                <a:tab algn="l" pos="374760"/>
                <a:tab algn="l" pos="1231920"/>
                <a:tab algn="l" pos="180324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,9 Вольт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=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примерно 1600 секунд 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27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tabLst>
                <a:tab algn="l" pos="0"/>
                <a:tab algn="l" pos="187200"/>
                <a:tab algn="l" pos="374760"/>
                <a:tab algn="l" pos="1231920"/>
                <a:tab algn="l" pos="180324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,3 Вольт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=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примерно 1000 секунд 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16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tabLst>
                <a:tab algn="l" pos="0"/>
                <a:tab algn="l" pos="187200"/>
                <a:tab algn="l" pos="374760"/>
                <a:tab algn="l" pos="1231920"/>
                <a:tab algn="l" pos="180324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,8 Вольт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==&gt;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примерно   700 секунд 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12 мин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1187280" y="5300640"/>
            <a:ext cx="813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374760"/>
                <a:tab algn="l" pos="1231920"/>
                <a:tab algn="l" pos="180324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вала времени слежения за передающим устройство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льшим чем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2x27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нут вполне достаточно для того, что бы отслеживать работоспособность и устойчивость радиосистемы. В случае, если от передающего устройства в течении одно часа не поступила радиотелеграмма, то такое устройство считается вышедшем из строя.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6"/>
          <p:cNvGraphicFramePr/>
          <p:nvPr/>
        </p:nvGraphicFramePr>
        <p:xfrm>
          <a:off x="3851280" y="4292640"/>
          <a:ext cx="5103720" cy="9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4292640"/>
                    <a:ext cx="51037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hteck 17"/>
          <p:cNvSpPr/>
          <p:nvPr/>
        </p:nvSpPr>
        <p:spPr>
          <a:xfrm>
            <a:off x="1412640" y="4437000"/>
            <a:ext cx="22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 слеже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радиосисте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219320" y="1295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создания стабильной радиосистемы необходимо анализировать и учитывать  особенности з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219320" y="220968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критерии, которые необходимо учиты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219320" y="2743200"/>
            <a:ext cx="7924680" cy="15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ts val="2123"/>
              </a:lnSpc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5652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ть сигнала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глощение и отражение радио сигнала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ь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lnSpc>
                <a:spcPct val="120000"/>
              </a:lnSpc>
              <a:tabLst>
                <a:tab algn="l" pos="0"/>
                <a:tab algn="l" pos="374760"/>
                <a:tab algn="l" pos="5652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 Мебель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lnSpc>
                <a:spcPct val="120000"/>
              </a:lnSpc>
              <a:tabLst>
                <a:tab algn="l" pos="0"/>
                <a:tab algn="l" pos="374760"/>
                <a:tab algn="l" pos="5652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ста размещения передатчиков и приём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219320" y="4648320"/>
            <a:ext cx="79246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ts val="2123"/>
              </a:lnSpc>
              <a:buClr>
                <a:srgbClr val="000000"/>
              </a:buClr>
              <a:buFont typeface="Arial"/>
              <a:buChar char="•"/>
              <a:tabLst>
                <a:tab algn="l" pos="374760"/>
                <a:tab algn="l" pos="5652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атчики на солнечных батаре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lnSpc>
                <a:spcPct val="120000"/>
              </a:lnSpc>
              <a:tabLst>
                <a:tab algn="l" pos="0"/>
                <a:tab algn="l" pos="374760"/>
                <a:tab algn="l" pos="5652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вещённость на месте монтажа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ой / искусственный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>
              <a:lnSpc>
                <a:spcPct val="120000"/>
              </a:lnSpc>
              <a:tabLst>
                <a:tab algn="l" pos="0"/>
                <a:tab algn="l" pos="374760"/>
                <a:tab algn="l" pos="56520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тен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и координа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2143080" y="714240"/>
            <a:ext cx="5715000" cy="55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  <a:ea typeface="Times New Roman"/>
              </a:rPr>
              <a:t>Thermokon Sensortechnik Gmb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arstras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5756 Mittenaar, Germany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l.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49 2772/6501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x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49 2772/6501-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ail@thermoko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www.thermokon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бер Даниил Яковл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ь Thermokon в странах восточной Европы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l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:  +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 6409 3300 7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ax.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9 6409 3300 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Mail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.herber@thermokon.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: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http://www.thermokon.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4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"/>
          <p:cNvPicPr/>
          <p:nvPr/>
        </p:nvPicPr>
        <p:blipFill>
          <a:blip r:embed="rId5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6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Роспространение радиовол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19320" y="13716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Энергия радиоволн убывает обратнопропорционально квадрату расстояния от передатчика до приём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219320" y="23623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E,H~1/r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1447920" y="2852640"/>
            <a:ext cx="7102440" cy="3237120"/>
            <a:chOff x="1447920" y="2852640"/>
            <a:chExt cx="7102440" cy="3237120"/>
          </a:xfrm>
        </p:grpSpPr>
        <p:graphicFrame>
          <p:nvGraphicFramePr>
            <p:cNvPr id="65" name="Object 7"/>
            <p:cNvGraphicFramePr/>
            <p:nvPr/>
          </p:nvGraphicFramePr>
          <p:xfrm>
            <a:off x="1447920" y="2895480"/>
            <a:ext cx="6629400" cy="3194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447920" y="2895480"/>
                      <a:ext cx="6629400" cy="319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7" name="Group 9"/>
            <p:cNvGrpSpPr/>
            <p:nvPr/>
          </p:nvGrpSpPr>
          <p:grpSpPr>
            <a:xfrm>
              <a:off x="7164360" y="2852640"/>
              <a:ext cx="1365120" cy="337320"/>
              <a:chOff x="7164360" y="2852640"/>
              <a:chExt cx="1365120" cy="337320"/>
            </a:xfrm>
          </p:grpSpPr>
          <p:sp>
            <p:nvSpPr>
              <p:cNvPr id="68" name="AutoShape 10"/>
              <p:cNvSpPr/>
              <p:nvPr/>
            </p:nvSpPr>
            <p:spPr>
              <a:xfrm>
                <a:off x="7164360" y="2852640"/>
                <a:ext cx="136512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1"/>
              <p:cNvSpPr/>
              <p:nvPr/>
            </p:nvSpPr>
            <p:spPr>
              <a:xfrm>
                <a:off x="7164360" y="2852640"/>
                <a:ext cx="136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ередатч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12"/>
            <p:cNvGrpSpPr/>
            <p:nvPr/>
          </p:nvGrpSpPr>
          <p:grpSpPr>
            <a:xfrm>
              <a:off x="7184880" y="3344760"/>
              <a:ext cx="1365480" cy="337320"/>
              <a:chOff x="7184880" y="3344760"/>
              <a:chExt cx="1365480" cy="337320"/>
            </a:xfrm>
          </p:grpSpPr>
          <p:sp>
            <p:nvSpPr>
              <p:cNvPr id="71" name="AutoShape 13"/>
              <p:cNvSpPr/>
              <p:nvPr/>
            </p:nvSpPr>
            <p:spPr>
              <a:xfrm>
                <a:off x="7184880" y="3344760"/>
                <a:ext cx="136548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4"/>
              <p:cNvSpPr/>
              <p:nvPr/>
            </p:nvSpPr>
            <p:spPr>
              <a:xfrm>
                <a:off x="7184880" y="3344760"/>
                <a:ext cx="136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риём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8960" y="65160"/>
            <a:ext cx="5715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глощение радиовол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ые м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219320" y="12952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Радиоволны могут проходить через стены с различной степенью их поглощ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219320" y="2209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ы для различных видов стен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219320" y="2666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рево, гипс                                    90...100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ницаемость материала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1219320" y="3260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тое стекло                                90...100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ницаемость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219320" y="38098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пич                                               65...95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проницаемость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187280" y="429264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етон  армированный                     10...90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ницаемость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1187280" y="486900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4759200"/>
                <a:tab algn="l" pos="580536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,  алюминиевые покрытия   0...10%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ницаемость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65160"/>
            <a:ext cx="5715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оглощение радиоволн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 дополнительные фак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219320" y="21337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ольгированная звукоизоля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284796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ёнка  для  пароизо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219320" y="354960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винцовое стекло или стекло с металлическим покрыт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219320" y="43117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ебель из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219320" y="499752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таж датчиков и выключателей на металлических стенах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1219320" y="12952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Дополнительные факторы, негативно влияющие на радиосигн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080"/>
            <a:ext cx="5715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Радиус действия – ориентировочные знач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187280" y="19890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риентировочные значения для радиуса действия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219320" y="2492280"/>
            <a:ext cx="79246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lnSpc>
                <a:spcPts val="2373"/>
              </a:lnSpc>
              <a:buClr>
                <a:srgbClr val="000000"/>
              </a:buClr>
              <a:buFont typeface="Arial"/>
              <a:buChar char="•"/>
              <a:tabLst>
                <a:tab algn="l" pos="3803760"/>
                <a:tab algn="l" pos="494676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видимость 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. 30 m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коридорах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. 100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павильонах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219320" y="357336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803760"/>
                <a:tab algn="l" pos="494676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совые / деревянные стены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. 25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максимум через 4 ст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219320" y="44370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803760"/>
                <a:tab algn="l" pos="494676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пич / строительный блок 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. 15 m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ум через 2 ст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1219320" y="522936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3803760"/>
                <a:tab algn="l" pos="494676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Железобетонные стены / потолки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yp. 10 m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симум через 1 сте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187280" y="112536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algn="just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роительные материалы играют очень важную роль при оценке радиуса действия радиосигнала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5715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ус действия – зона неуверенного приёма сигна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1187280" y="155736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ительные щиты и  шахты для лифта должны рассматриваться как препятствия, поглощающие радиосигна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1981080" y="2562120"/>
            <a:ext cx="6686640" cy="3075120"/>
            <a:chOff x="1981080" y="2562120"/>
            <a:chExt cx="6686640" cy="3075120"/>
          </a:xfrm>
        </p:grpSpPr>
        <p:graphicFrame>
          <p:nvGraphicFramePr>
            <p:cNvPr id="114" name="Object 7"/>
            <p:cNvGraphicFramePr/>
            <p:nvPr/>
          </p:nvGraphicFramePr>
          <p:xfrm>
            <a:off x="1981080" y="2590920"/>
            <a:ext cx="6139080" cy="30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5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81080" y="2590920"/>
                      <a:ext cx="6139080" cy="30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16" name="Group 8"/>
            <p:cNvGrpSpPr/>
            <p:nvPr/>
          </p:nvGrpSpPr>
          <p:grpSpPr>
            <a:xfrm>
              <a:off x="7281720" y="2562120"/>
              <a:ext cx="1365480" cy="337320"/>
              <a:chOff x="7281720" y="2562120"/>
              <a:chExt cx="1365480" cy="337320"/>
            </a:xfrm>
          </p:grpSpPr>
          <p:sp>
            <p:nvSpPr>
              <p:cNvPr id="117" name="AutoShape 9"/>
              <p:cNvSpPr/>
              <p:nvPr/>
            </p:nvSpPr>
            <p:spPr>
              <a:xfrm>
                <a:off x="7281720" y="2562120"/>
                <a:ext cx="136548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0"/>
              <p:cNvSpPr/>
              <p:nvPr/>
            </p:nvSpPr>
            <p:spPr>
              <a:xfrm>
                <a:off x="7281720" y="2562120"/>
                <a:ext cx="136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ередатч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11"/>
            <p:cNvGrpSpPr/>
            <p:nvPr/>
          </p:nvGrpSpPr>
          <p:grpSpPr>
            <a:xfrm>
              <a:off x="7302600" y="3054240"/>
              <a:ext cx="1365120" cy="337320"/>
              <a:chOff x="7302600" y="3054240"/>
              <a:chExt cx="1365120" cy="337320"/>
            </a:xfrm>
          </p:grpSpPr>
          <p:sp>
            <p:nvSpPr>
              <p:cNvPr id="120" name="AutoShape 12"/>
              <p:cNvSpPr/>
              <p:nvPr/>
            </p:nvSpPr>
            <p:spPr>
              <a:xfrm>
                <a:off x="7302600" y="3054240"/>
                <a:ext cx="136512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13"/>
              <p:cNvSpPr/>
              <p:nvPr/>
            </p:nvSpPr>
            <p:spPr>
              <a:xfrm>
                <a:off x="7302600" y="3054240"/>
                <a:ext cx="136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риём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Эффективная толщина сте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219320" y="129528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Эффективная толщина стены,  равно как и поглощение радиосигнала,  изменяются в зависимости  от угла проникновения радиосиг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624040" y="2309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219320" y="213372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иосигнал должен проходить через стену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прямым уг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219320" y="251460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9"/>
          <p:cNvGrpSpPr/>
          <p:nvPr/>
        </p:nvGrpSpPr>
        <p:grpSpPr>
          <a:xfrm>
            <a:off x="2438280" y="2984400"/>
            <a:ext cx="6140520" cy="3248280"/>
            <a:chOff x="2438280" y="2984400"/>
            <a:chExt cx="6140520" cy="3248280"/>
          </a:xfrm>
        </p:grpSpPr>
        <p:graphicFrame>
          <p:nvGraphicFramePr>
            <p:cNvPr id="132" name="Object 8"/>
            <p:cNvGraphicFramePr/>
            <p:nvPr/>
          </p:nvGraphicFramePr>
          <p:xfrm>
            <a:off x="2438280" y="3079800"/>
            <a:ext cx="5486400" cy="3152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38280" y="3079800"/>
                      <a:ext cx="5486400" cy="315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34" name="Group 11"/>
            <p:cNvGrpSpPr/>
            <p:nvPr/>
          </p:nvGrpSpPr>
          <p:grpSpPr>
            <a:xfrm>
              <a:off x="7192800" y="2984400"/>
              <a:ext cx="1365480" cy="337320"/>
              <a:chOff x="7192800" y="2984400"/>
              <a:chExt cx="1365480" cy="337320"/>
            </a:xfrm>
          </p:grpSpPr>
          <p:sp>
            <p:nvSpPr>
              <p:cNvPr id="135" name="AutoShape 12"/>
              <p:cNvSpPr/>
              <p:nvPr/>
            </p:nvSpPr>
            <p:spPr>
              <a:xfrm>
                <a:off x="7192800" y="2984400"/>
                <a:ext cx="136548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Text Box 13"/>
              <p:cNvSpPr/>
              <p:nvPr/>
            </p:nvSpPr>
            <p:spPr>
              <a:xfrm>
                <a:off x="7192800" y="2984400"/>
                <a:ext cx="136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ередатч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4"/>
            <p:cNvGrpSpPr/>
            <p:nvPr/>
          </p:nvGrpSpPr>
          <p:grpSpPr>
            <a:xfrm>
              <a:off x="7213680" y="3476520"/>
              <a:ext cx="1365120" cy="337320"/>
              <a:chOff x="7213680" y="3476520"/>
              <a:chExt cx="1365120" cy="337320"/>
            </a:xfrm>
          </p:grpSpPr>
          <p:sp>
            <p:nvSpPr>
              <p:cNvPr id="138" name="AutoShape 15"/>
              <p:cNvSpPr/>
              <p:nvPr/>
            </p:nvSpPr>
            <p:spPr>
              <a:xfrm>
                <a:off x="7213680" y="3476520"/>
                <a:ext cx="136512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16"/>
              <p:cNvSpPr/>
              <p:nvPr/>
            </p:nvSpPr>
            <p:spPr>
              <a:xfrm>
                <a:off x="7213680" y="3476520"/>
                <a:ext cx="136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риём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Text Box 17"/>
          <p:cNvSpPr/>
          <p:nvPr/>
        </p:nvSpPr>
        <p:spPr>
          <a:xfrm>
            <a:off x="1219320" y="255276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йденный путь радиосигнала внутри стены должен быть наикратчайш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182600" cy="12952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65160"/>
            <a:ext cx="57150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92240" indent="0">
              <a:lnSpc>
                <a:spcPct val="100000"/>
              </a:lnSpc>
              <a:buNone/>
              <a:tabLst>
                <a:tab algn="l" pos="0"/>
                <a:tab algn="l" pos="192240"/>
                <a:tab algn="l" pos="639720"/>
                <a:tab algn="l" pos="1089000"/>
                <a:tab algn="l" pos="1538280"/>
                <a:tab algn="l" pos="1987560"/>
                <a:tab algn="l" pos="2436840"/>
                <a:tab algn="l" pos="2886120"/>
                <a:tab algn="l" pos="3335400"/>
                <a:tab algn="l" pos="3784680"/>
                <a:tab algn="l" pos="4233960"/>
                <a:tab algn="l" pos="4683240"/>
                <a:tab algn="l" pos="5132520"/>
                <a:tab algn="l" pos="5581800"/>
                <a:tab algn="l" pos="6031080"/>
                <a:tab algn="l" pos="6480000"/>
                <a:tab algn="l" pos="6929280"/>
                <a:tab algn="l" pos="7378560"/>
                <a:tab algn="l" pos="7827840"/>
                <a:tab algn="l" pos="8277120"/>
                <a:tab algn="l" pos="8726400"/>
                <a:tab algn="l" pos="917568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Приёмные устройства с внутренней антен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33280" y="226692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233280" y="359892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233280" y="492912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219320" y="121932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tabLst>
                <a:tab algn="l" pos="0"/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ройства с внутренней антенной должны монтироваться на противоположных и прилегающих стен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624040" y="24908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2624040" y="24620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624040" y="2309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2523960" y="229068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219320" y="198108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635040"/>
                <a:tab algn="l" pos="1084320"/>
                <a:tab algn="l" pos="1533600"/>
                <a:tab algn="l" pos="1982880"/>
                <a:tab algn="l" pos="2432160"/>
                <a:tab algn="l" pos="2881440"/>
                <a:tab algn="l" pos="3330720"/>
                <a:tab algn="l" pos="3780000"/>
                <a:tab algn="l" pos="4229280"/>
                <a:tab algn="l" pos="4678200"/>
                <a:tab algn="l" pos="5127480"/>
                <a:tab algn="l" pos="5576760"/>
                <a:tab algn="l" pos="6026040"/>
                <a:tab algn="l" pos="6475320"/>
                <a:tab algn="l" pos="6924600"/>
                <a:tab algn="l" pos="7373880"/>
                <a:tab algn="l" pos="7823160"/>
                <a:tab algn="l" pos="8272440"/>
                <a:tab algn="l" pos="8721720"/>
                <a:tab algn="l" pos="9171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монтаже  приёмного устройства желательно избегать ту стену, на которой установлен передатч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0"/>
          <p:cNvGrpSpPr/>
          <p:nvPr/>
        </p:nvGrpSpPr>
        <p:grpSpPr>
          <a:xfrm>
            <a:off x="2286000" y="2963880"/>
            <a:ext cx="5857920" cy="2836800"/>
            <a:chOff x="2286000" y="2963880"/>
            <a:chExt cx="5857920" cy="2836800"/>
          </a:xfrm>
        </p:grpSpPr>
        <p:graphicFrame>
          <p:nvGraphicFramePr>
            <p:cNvPr id="153" name="Object 11"/>
            <p:cNvGraphicFramePr/>
            <p:nvPr/>
          </p:nvGraphicFramePr>
          <p:xfrm>
            <a:off x="2286000" y="2963880"/>
            <a:ext cx="5105520" cy="2836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4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0" y="2963880"/>
                      <a:ext cx="5105520" cy="283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5" name="Group 13"/>
            <p:cNvGrpSpPr/>
            <p:nvPr/>
          </p:nvGrpSpPr>
          <p:grpSpPr>
            <a:xfrm>
              <a:off x="6757920" y="3071880"/>
              <a:ext cx="1365480" cy="337320"/>
              <a:chOff x="6757920" y="3071880"/>
              <a:chExt cx="1365480" cy="337320"/>
            </a:xfrm>
          </p:grpSpPr>
          <p:sp>
            <p:nvSpPr>
              <p:cNvPr id="156" name="AutoShape 14"/>
              <p:cNvSpPr/>
              <p:nvPr/>
            </p:nvSpPr>
            <p:spPr>
              <a:xfrm>
                <a:off x="6757920" y="3071880"/>
                <a:ext cx="136548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5"/>
              <p:cNvSpPr/>
              <p:nvPr/>
            </p:nvSpPr>
            <p:spPr>
              <a:xfrm>
                <a:off x="6757920" y="3071880"/>
                <a:ext cx="1365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ередатч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"/>
            <p:cNvGrpSpPr/>
            <p:nvPr/>
          </p:nvGrpSpPr>
          <p:grpSpPr>
            <a:xfrm>
              <a:off x="6778800" y="3564000"/>
              <a:ext cx="1365120" cy="337320"/>
              <a:chOff x="6778800" y="3564000"/>
              <a:chExt cx="1365120" cy="337320"/>
            </a:xfrm>
          </p:grpSpPr>
          <p:sp>
            <p:nvSpPr>
              <p:cNvPr id="159" name="AutoShape 17"/>
              <p:cNvSpPr/>
              <p:nvPr/>
            </p:nvSpPr>
            <p:spPr>
              <a:xfrm>
                <a:off x="6778800" y="3564000"/>
                <a:ext cx="1365120" cy="333360"/>
              </a:xfrm>
              <a:prstGeom prst="roundRect">
                <a:avLst>
                  <a:gd name="adj" fmla="val 472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18"/>
              <p:cNvSpPr/>
              <p:nvPr/>
            </p:nvSpPr>
            <p:spPr>
              <a:xfrm>
                <a:off x="6778800" y="3564000"/>
                <a:ext cx="136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Приёмни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5:44:00Z</dcterms:created>
  <dc:creator>dherber</dc:creator>
  <dc:description/>
  <dc:language>en-US</dc:language>
  <cp:lastModifiedBy>dherber</cp:lastModifiedBy>
  <dcterms:modified xsi:type="dcterms:W3CDTF">2012-11-22T17:26:31Z</dcterms:modified>
  <cp:revision>12</cp:revision>
  <dc:subject/>
  <dc:title>Folie 1</dc:title>
</cp:coreProperties>
</file>